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3E51-7FD0-4012-B90C-2EF8D12F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853F-9DA0-453C-9BA6-BF45B620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8266-4F70-4A9F-9B37-3ED5B04D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AC1E-F6CB-4AED-A42A-709CB562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83BF-C87C-430F-ACEA-BC39355C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D7A1-2FAE-4CC7-A0F2-D8157B55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8EB5-3794-4021-8342-6471E005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2E43-3F1B-46F8-AAED-D3646410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0B03-47E1-42C5-AD35-ED97C688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0F93-48CF-4DD1-9371-7C71DF4C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5322-88D4-4436-885C-94196924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9750-60DC-403F-BE12-A91542C1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4D26-528C-4EDB-B074-90AD604A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D2F2-0F92-49D8-B56B-752ED37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9668-51CD-4A69-B632-B2BA3919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8065-676C-40D1-9F6D-7C4435C7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468A-B5B3-4E16-9030-435A0710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A431-CF9B-48A4-8FF2-31F4015C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97DB-2221-484B-A774-2CF33E3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D07B-3938-4949-9C19-203CA8FB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5EFB-37A7-4CAC-A926-23BAD6C9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5B84-55B8-4AB5-8B33-F44E4C57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9621-0AF4-419A-9E65-83B1DDE9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4D00-CED3-4701-99B6-1529CCFD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7089-2968-4831-AE45-2574F873E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DA59-5223-45F2-95CA-18024484DB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6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on 4: Balancing School, Sports, and Home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34320" y="4724280"/>
            <a:ext cx="1820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kills for Balancing Your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you feel that you need to work on balancing your life, try talking with family members, teachers, or friends. Sometimes someone else can see a solution that you might never consid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you want to play several sports, choose sports with seasons that don’t overla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iminate one sport, but continue others. Consider staying with a sport that you might enjoy for a lifeti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ok for a different team or league – one that might require less energy and ti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lay only one season each year in a sport. For example, play soccer in the fall but not in the spr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lance the sports you play by using cross-training techniques. Select those that complement one another in terms of fitness benefits and skill develop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os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1. Explain. How can the decision-making process help you make choices about balancing your lif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2. Vocabulary. What is overcommitmen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3. List. Identify 4 warning signs of overcommi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4. Distinguish. What is the difference between dedication to excellence in a sport and overcommitmen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67480" y="5051520"/>
            <a:ext cx="1333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BELL ACTI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Draw a simple chart that shows the relative time and energy you feel you put into each of the three aspects of your life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Spor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Home lif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1351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ciding What Matters to You p. 16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ts may be a large part of your life right now. Winning a game and being part of a team can make you feel great. However, you are also a student and a family memb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times you may find it difficult to balance sports activities with your other interests and responsibil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0532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ing… p. 16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Balancing your roles does not necessarily mean giving them equal import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though each is significant, one area or another may take a leading role at a particular point in your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’s always a good idea to be aware of how your commitment to sports is affecting your schoolwork and family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20750400">
            <a:off x="456840" y="0"/>
            <a:ext cx="1503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d you know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ts have been a part of human life for a very long time. In fact, the oldest sport in the world may be bowling. A bowling ball made of stone was found, along with bowling pins, in the tomb of an Egyptian mummy. The tomb was built about 7,000 years ag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666880" y="4648320"/>
            <a:ext cx="2667240" cy="1784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791320" y="4648320"/>
            <a:ext cx="25794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6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sing the Decision Making Process p. 167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gure 6.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e the situ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 the o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igh the possible outco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your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a decision and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aluate the dec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572000"/>
            <a:ext cx="2286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ning Signs p. 16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of the purposes of the decision-making process is to help you guard against overcommi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Overcommitment is obligating yourself to more people or projects than you have time or energy to follow through 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cause you to feel tired and irri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ay also feel guilty if you believe you are letting others d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3600" y="5500800"/>
            <a:ext cx="1263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rno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commitment can lead to burnou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Burnout – a sense of exhaustion caused by exerting too much energy for too long a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physical, mental, or emot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1870200" cy="1679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28908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gure 6.8 Warning Signs of Overcommitment p. 168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miss homework assignments or do poorly on tests because of sports practices or ga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neglect household chores or miss family activities and gatherin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lose touch with friends who are not on your te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experience fatigue or frequent injuries caused by carelessness or by overuse of musc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no longer enjoy the sport or lose interest in it complete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2:54:03Z</dcterms:created>
  <dc:creator>GSCS</dc:creator>
  <dc:description/>
  <dc:language>en-US</dc:language>
  <cp:lastModifiedBy>GSCS</cp:lastModifiedBy>
  <dcterms:modified xsi:type="dcterms:W3CDTF">2010-11-10T13:26:18Z</dcterms:modified>
  <cp:revision>4</cp:revision>
  <dc:subject/>
  <dc:title>Chapter 6</dc:title>
</cp:coreProperties>
</file>